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EED2-056A-41CF-9702-590E6E75D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 initially provided by QSE in its Service Fi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 = 10% for QSEs scheduling only Load or Generation; 5% for QSEs scheduling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P = $7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 initially provided by QSE in its Service Fi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 = 10% for QSEs scheduling only Load or Generation; 5% for QSEs scheduling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P = $7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will promptly notify QSE of changes to its EAL or TEL and allow a reasonable time to provide additional security if necessary to maintain compliance with financial security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0721-3747-4A83-A5D7-0BD92D40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248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BA4D-84EF-435A-BBBA-15102B6B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564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790F-69A7-46A5-B346-4DC634F1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756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668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756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668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F96B-67FD-428E-BD81-0DF540BD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C6B1-0913-472B-976A-A753592D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895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021D-5F5F-493E-8926-59E80FDE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8554-B475-4210-9531-8D096105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7D64-3BE3-4247-BAB3-D86EEDF4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8BDF-A996-44D9-B2FF-81330BF2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E87A-7860-4E6B-84C1-BF8B8612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33F3-DB4B-468F-9D96-2A3EE4F5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895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A65-CB5B-46F4-85A6-711D7EC3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564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E702-3E02-4FEC-BD3F-D27463B1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4C46-2C61-449C-9B6A-1474BED5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248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3558-2165-461E-9E8D-E5C86360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564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18F3-6D44-4B6F-81B9-D58DBDDF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756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3668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756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3668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07D1-E40E-49CB-BC9C-0CA7C423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6DAE-2067-4578-BCEC-1485B32D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5F79-D796-4521-A4B5-8C51C123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D577-062B-470B-B882-DD43D71D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1FD7-0506-4CA2-801B-B3AD115A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0C5F-9C3F-484A-BA78-C021976F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564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C5DC-D3F7-4EFF-AAA8-74B14E0D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DB3-84C8-41BC-B76A-EFC3F959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895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9180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57150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57150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57150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4E8E-03C8-4DCF-90E3-3DE291E0C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62120" y="5867280"/>
            <a:ext cx="1676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66688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29400" y="58672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45B8-392C-4FEB-9DFA-F71A79519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R 523 Revisions to Section 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19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ryl Mose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Rules 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402240" y="76320"/>
            <a:ext cx="1979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62320" y="228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R 523 – Revisions to Protocol Section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R submitted by ERC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s PRR section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 Impact Analysis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system project priorit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ize the System Change Reques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dead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col Revision Requests (PRR) and System Change Requests (SCR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initiat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CT Staf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Ent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Rs, SCRs and Comments are submitted electronically to ERCOT (ProtRevReq@ercot.c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90560" y="2282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rotocol Revision Request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318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reviews for format and completeness; assigns number; posts and distribu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applicable Comment period, PRS considers and makes a recommendation on the PR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prepares PRR Impact Analysis (PIA); comment period on PRS Recommendation runs concurrent with PIA prepa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S reviews PIA and modifies recommendation to TAC (if necessary), assigns project priority (if need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C considers PRS Recommendation and makes a recommendation to Board of Direc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updates P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ard considers TAC Recommend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updated PIA and takes 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ard Action Report is posted on webs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ard Action can be appealed to PU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705720" y="4724280"/>
            <a:ext cx="22860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ystem Change Requests (SCR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391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 reviews for format and completeness; assigns number; sends to appropriate subcommittee (RMS, WMS, ROS), posts and distribu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fter appropriate comment period, Subcommittee considers and makes a recommendation on the SC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repares SCR Impact Analysis (SIA); comment period on Subcommittee Recommendation runs concurrent with SIA prep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ommittee reviews SIA and modifies recommendation to TAC (if necess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S assigns project pri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 considers Subcommittee Recommendation and makes a recommendation to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updates 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ard considers TAC Recommendation and updated SIA and takes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ard Action Report is posted on web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rotocol Section 21 - curr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13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25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43800" y="35053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503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17960" y="35053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1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0480" y="4067280"/>
            <a:ext cx="187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1 Day Com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720" y="20858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39120" y="449568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ugust 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155440" y="42670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ov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20" y="434340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uly 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04560" y="3886200"/>
            <a:ext cx="1522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1485720" y="308556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895480" y="39621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4152960" y="3085920"/>
            <a:ext cx="152280" cy="190476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73200" y="4067280"/>
            <a:ext cx="187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1 Day Com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18148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17440" y="449568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ctober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85440" y="2743200"/>
            <a:ext cx="1522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9400" y="20858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27432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3800" y="25430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S R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276360" y="3200400"/>
            <a:ext cx="7596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41560" y="20858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C R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27432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028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57040" y="534672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ctober 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7162560" y="3962520"/>
            <a:ext cx="7596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09320" y="2085840"/>
            <a:ext cx="15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OD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772400" y="2743200"/>
            <a:ext cx="1015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83908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610480" y="396216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171840" y="396252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RR 523 – Revisions to Protocol Section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13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25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503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17960" y="35053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1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0480" y="4067280"/>
            <a:ext cx="187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1 Day Com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720" y="20858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02680" y="4495680"/>
            <a:ext cx="1815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ugust 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418600" y="4114800"/>
            <a:ext cx="7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c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20" y="434340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uly 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04560" y="3886200"/>
            <a:ext cx="1522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1485720" y="308556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895480" y="39621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4152960" y="3085920"/>
            <a:ext cx="152280" cy="190476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73200" y="4067280"/>
            <a:ext cx="187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1 Day Com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18148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17440" y="449568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ctober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85440" y="2743200"/>
            <a:ext cx="1522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3800" y="25430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S R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276360" y="3200400"/>
            <a:ext cx="7596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41560" y="20858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C R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7432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09320" y="2085840"/>
            <a:ext cx="15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OD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883908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610480" y="396216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 rot="5400000">
            <a:off x="4191120" y="236124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76240" y="208584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5-Day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4800" y="2743200"/>
            <a:ext cx="763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33412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04920" y="4797360"/>
            <a:ext cx="195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ptember 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nd 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876920" y="3962520"/>
            <a:ext cx="68580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35053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27800" y="2543040"/>
            <a:ext cx="174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Up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S R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32004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6171840" y="396252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92468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23120" y="35053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1880" y="27432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5480" y="450864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ovember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077320" y="39621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 rot="5400000">
            <a:off x="7010280" y="266580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84872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55960" y="261936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0-Day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0280" y="3124080"/>
            <a:ext cx="7632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7240" y="6248520"/>
            <a:ext cx="77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milar process applies to System Change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PRR or SCR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Rs are for issues that require a change to the Protocols, but may or may not require a change to ERCOT computer syste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Rs are for issues that do not require a change to the Protocols; but do require a change to ERCOT computer syste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n SCR is submitted that will require a change to the Protocols, ERCOT will reject the SCR and request that the submitter prepare a PR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225960" y="3235320"/>
            <a:ext cx="248904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7T19:42:52Z</dcterms:created>
  <dc:creator>thancock</dc:creator>
  <dc:description/>
  <dc:language>en-US</dc:language>
  <cp:lastModifiedBy>tnt</cp:lastModifiedBy>
  <dcterms:modified xsi:type="dcterms:W3CDTF">2004-10-14T17:28:08Z</dcterms:modified>
  <cp:revision>142</cp:revision>
  <dc:subject/>
  <dc:title>QSE Liability Monitoring – First 90 Days </dc:title>
</cp:coreProperties>
</file>